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3D2-597E-4981-82F2-8F1BB021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12B0-3D5E-4B36-A9F5-0535E008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F68-D541-4435-83C5-44E6F020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9EA-1242-492B-AE32-6357420E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46EB-1DF2-4BB0-9321-A1E77DBE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B276-0FC8-4D9A-AA4C-6B4A73F8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8847-AB3C-4E22-8749-288933E5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216E-59B2-4836-9353-C594CD7F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80F8-2EE6-4E3B-80F9-07143555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9EA4-8DBC-4800-AADE-5B06D9FA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2C87-7B70-4BC6-B604-5072DE5E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CB4E-7B1D-4F05-9142-5EED0F14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419C-774D-4781-8580-D4B8B043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8CA90-4495-4EB3-AB39-707A59FB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D063-2F39-4387-80F9-90C81EE5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93C3-843A-4053-ACCF-CEDF029F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C1DA-DC58-4C49-A366-B6141492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B94-84AE-4CAF-A27C-2DBCD931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288-575E-4F7B-81F0-F5B9D78D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F9B-E533-4961-B5C6-38CACC23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1B1-E8E9-49CD-B110-0A8415C8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393-B8AA-4A63-93FB-32F0FD2A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038C-D587-4FC5-B8B2-3F58CDE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DA6-9E06-4F26-95CA-911FA4CB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F2A0-961A-4E37-B837-B59146097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E259-7DDC-4EB7-9800-DE7E436B2C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TEM &amp; ELLs</a:t>
            </a:r>
            <a:br>
              <a:rPr sz="2000"/>
            </a:br>
            <a:br>
              <a:rPr sz="5400"/>
            </a:b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words are pegs to hang ideas on.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enry Ward Beec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ursday, October 18, 20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ctivities to Activate / Build Prior Knowledg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 a pi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ousel Brainstorming – Gallery T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 your five senses – I see, I hear, I feel, etc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dering Cube – Teacher created question cub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-group-label – Brainstorm, cluster, sh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 This! Match vocab. terms to pi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5 words when you think of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cipation Guide – Agree or disagree with 5-8 stat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eaching ELL’s Vocabulary in Contex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abulary instruction for ELL readers should be connected to the subject matter being taugh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abulary should be tailored to the ELL student’s English and literacy leve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perative learning plays a critical role in vocabulary developmen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Strategies for Vocabulary Developmen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lent Ma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onal Word Ban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gic Flip 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pleless Boo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readwritethink.org/classroom-resources/student-interactives/stapleless-book-30010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Development of Academic Languag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fundamental to academic success in all domains (listening, speaking, reading and writing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the primary source of ELL’s difficulties with academic content at all ages and gr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remain a challenge even after students achieve proficiency on current state language proficiency te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ELL’s performance on large scale assess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mprehensible Inpu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e speech appropri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or student’s proficiency leve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ain academic tasks clear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ety of techniqu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make content concepts cl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ckling Textbook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priateness of the 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ce the teacher has selected the content standard for the unit, the teacher scans the text for information that addresses the standa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of Text: The teacher previews the expository of narrative text (textbook chapter, literature section, poem, etc…) to select, condense and eliminate unnecessary information and segment the text for explicit instru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ckling Textbook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 the text backwa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comprehensibility 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ing applications first, relevance &amp; prior knowled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 main points using oral language &amp; hands-on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ine study questions by providing an overview &amp; key conce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 text made manageable for ELL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sour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A CAN DO Descrip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llerat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affolding Assessment by Language Proficiency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phic Organiz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ank You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ynn To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teach66@centurylink.n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ic Mand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UM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mandell@iu12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ink-Pair-Share</a:t>
            </a: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Prior Knowledge of Words &amp; Idea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B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LO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C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view of Research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lish Language Learners still need the 3 R’s, yet combined with the 4C’s (Critical thinking, creativity, collaboration and communication) to thrive in today’s global community. (Partnership for 2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entury Skills 201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he 1997-1998 school year to the 2008-2009 school year, the number of English Language Learners enrolled in public schools increased by 51% (NCELA 2011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tionwide, only 5% of eighth grade English Language Learners scored at or above proficient in math on the National Assessment of Educational Progress (Slavin, Madden &amp; Calderon 2010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English Language Learners in the STEM Workforc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 Language Learners comprise one in ten students in US schools and are projected to show continued growth in years ah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glish Language Learners present a unique opportunity for our educational system to develop a skilled, multilingual STEM workforce for the global economy of th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imperative that all students, including English Language Learners, have access to STEM-rich content and opportunities to learn about and explore the many STEM-related fields and care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digm shift in thinking →Cultural Deficit→ Cultural Cap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arent, Family and Community Involvemen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are the key to the success of a student’s STEM care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an understanding for significance of STEM by creating short term STEM programs with their childr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involvement contributes to early exposure to 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involvement allows for cultural understanding and allows for the development of the communities future workfo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arent, Family and Community Involvemen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SA Family Science N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Partners includ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ckinson Colle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 United Methodist Chur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SD via Title III &amp; ESL Depar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 of a short-term program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youtube.com/watch?v=TvHn392TVTE&amp;feature=plc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Integrating Content &amp; Languag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effective educational practices for ELL’s in content classrooms is a means to ensure these students have equal access to challenging academic cont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 content and language outcomes for each les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ers are provided goal-directed opportunities to interact, reflect on and build specific content knowledge and skil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rning tasks include the four language development domains: speaking, reading, listening and wri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aking Content Comprehensible for ELL’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rehensible Inp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actice/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on Deliv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/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Activating or Building Backgroun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nk concepts to student’s background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nd experie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icitly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nk past learning and new concep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phasiz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key vocabula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6T03:14:27Z</dcterms:created>
  <dc:creator>MEP-user01</dc:creator>
  <dc:description/>
  <dc:language>en-US</dc:language>
  <cp:lastModifiedBy>edeng</cp:lastModifiedBy>
  <dcterms:modified xsi:type="dcterms:W3CDTF">2012-10-18T09:44:13Z</dcterms:modified>
  <cp:revision>11</cp:revision>
  <dc:subject/>
  <dc:title>STEM &amp; ELL’s</dc:title>
</cp:coreProperties>
</file>